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D66-C863-4EC9-AD73-B192AC41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C27-1E49-43DE-86AB-9B5F3154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ACD-151A-4F9D-A46E-40321317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931-E46A-4EA6-B7CA-F2967B73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42C-6E27-4640-BD6C-24E2683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D8E-79F8-41A3-9F68-F001B71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A3C-7F44-4D5F-A39D-4A078A9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B99-6E56-447F-8D56-9822AB4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9392-5D6B-404B-B7BF-A253EDD2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667-1C09-4F43-9F42-3C52141E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C99A-8E2A-43DE-A94E-D66132D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03D-9ED0-49FC-B57A-02E15C1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2FB-A89D-4802-9B29-F90A805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73C3-726D-4BB9-991C-49FB04D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EE25-7304-47DE-8840-5DA5D23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38A2-59FC-4E4C-91A6-FA779CDD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B21-3353-4105-9BAE-66817EAF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58A-75F3-492D-859C-EFFBA4C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755-B898-41A3-B555-751EF0A0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09D-96FA-49F4-8898-BFCC314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CE9-9053-43EB-8678-B93FD956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1C6-D72A-467D-AA2D-F5A2C53A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C45-C474-406F-A48F-884A6C7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187-7A0C-4B65-AFB6-1AEEDFD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63D-2BB9-445A-AB2F-E84F88B83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19A-8633-45FE-BF23-30D41F0E3D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lpturegallery.com/egypt2/king_tut_mask_lg_red.jpg&amp;imgrefurl=http://www.sculpturegallery.com/sculpture/gold_mask_of_tutankhamun.html&amp;usg=__6GXZdQhO8kBsuj8XwAok_24__YE=&amp;h=504&amp;w=375&amp;sz=100&amp;hl=en&amp;start=20&amp;um=1&amp;tbnid=hllDcq_I9COfwM:&amp;tbnh=130&amp;tbnw=97&amp;prev=/images%3Fq%3Dking%2Btut%26um%3D1%26hl%3Den%26rls%3Dcom.microsoft:en-us:IE-SearchBox%26rlz%3D1I7HPIA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meta-religion.com/Archaeology/images/Africa/king_tut_face.jpg&amp;imgrefurl=http://meta-religion.com/Archaeology/Africa/Egypt/king_tut_face.htm&amp;usg=__zcPIgHVDIf5mN5SVp5QswyAODEE=&amp;h=280&amp;w=416&amp;sz=30&amp;hl=en&amp;start=32&amp;um=1&amp;tbnid=rxas4sew59kinM:&amp;tbnh=84&amp;tbnw=125&amp;prev=/images%3Fq%3Dking%2Btut%26start%3D20%26ndsp%3D20%26um%3D1%26hl%3Den%26rls%3Dcom.microsoft:en-us:IE-SearchBox%26rlz%3D1I7HPIA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en/c/ca/OetzitheIceman-glacier-199109b.jpg&amp;imgrefurl=http://mastersfiles.com/2009/01/otzi-the-iceman/&amp;usg=__BuJlAJrpuKv8WJKWlj7o9VOSX0c=&amp;h=308&amp;w=400&amp;sz=48&amp;hl=en&amp;start=32&amp;um=1&amp;tbnid=mJFxpw5ZLLHK3M:&amp;tbnh=95&amp;tbnw=124&amp;prev=/images%3Fq%3Dotzi%26start%3D20%26ndsp%3D20%26um%3D1%26hl%3Den%26rls%3Dcom.microsoft:en-us:IE-SearchBox%26rlz%3D1I7HPIA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landschaftsmuseum.de/Bilder/Oetzi-Rek_Ausschn-1.jpg&amp;imgrefurl=http://anthropology.net/2007/03/20/new-research-on-otzi-the-iceman-cometh/&amp;usg=__zmP9QRsekVc4HrDzWkViTQg5EX4=&amp;h=242&amp;w=270&amp;sz=18&amp;hl=en&amp;start=31&amp;um=1&amp;tbnid=RIxwEhwa6YHABM:&amp;tbnh=101&amp;tbnw=113&amp;prev=/images%3Fq%3Dotzi%26start%3D20%26ndsp%3D20%26um%3D1%26hl%3Den%26rls%3Dcom.microsoft:en-us:IE-SearchBox%26rlz%3D1I7HPIA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Y-z-fb-HGGA/RoL4Wep-zTI/AAAAAAAAB7M/3oW-TqYr_Bw/s400/rt_hatshepsut_hair_070627_ssv.jpg&amp;imgrefurl=http://1158munich.blogspot.com/2007/06/smiling-queen.html&amp;usg=__ypaOq4d0L77zy9EHZbaljrWjQC8=&amp;h=400&amp;w=366&amp;sz=24&amp;hl=en&amp;start=52&amp;um=1&amp;tbnid=oghLJmQaJX2pSM:&amp;tbnh=124&amp;tbnw=113&amp;prev=/images%3Fq%3Dqueen%2Bhatshepsut%26start%3D40%26ndsp%3D20%26um%3D1%26hl%3Den%26rls%3Dcom.microsoft:en-us:IE-SearchBox%26rlz%3D1I7HPIA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Comic Sans MS"/>
              </a:rPr>
              <a:t>Famous Mummies and </a:t>
            </a:r>
            <a:br>
              <a:rPr sz="4400"/>
            </a:br>
            <a:r>
              <a:rPr b="0" lang="en-US" sz="4400" spc="-1" strike="noStrike">
                <a:solidFill>
                  <a:srgbClr val="e2efcd"/>
                </a:solidFill>
                <a:latin typeface="Comic Sans MS"/>
              </a:rPr>
              <a:t>Their Storie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y Alexa Grazio and Tori Lac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1035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King Tutankhamen 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(King Tut)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1922 by Howard Carter and Lord Carnarv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was located in the Valley of the Kings which is in Egy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overy was famous because his tomb was very well preser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4876920"/>
            <a:ext cx="137952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5002200"/>
            <a:ext cx="2209680" cy="1486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24080" y="5486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g Tut’s funeral 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: King Tut reco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: King Tut’s 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Ötzi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(The Iceman)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1991 by Helmut and Erika Simon who were hi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was located near Hauslabjoch in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zal Al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zi is famous because he is the oldest mummy found preserved by 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510552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5105520"/>
            <a:ext cx="160020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29000" y="5486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nstru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t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5562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tzi’s mum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Queen Hatshepsu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avated in 1903 by Howard Carter but not identified until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body was found on the west bank of the N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en Hatshepsut was famous because she was the first woman ruler recorded i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952880"/>
            <a:ext cx="1492200" cy="1638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62520" y="5410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en Hatshepsut’s mum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562720" y="5257800"/>
            <a:ext cx="1600200" cy="1239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23888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ue of Queen Hatsheps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0:50:18Z</dcterms:created>
  <dc:creator>SGrazio</dc:creator>
  <dc:description/>
  <dc:language>en-US</dc:language>
  <cp:lastModifiedBy>SGrazio</cp:lastModifiedBy>
  <dcterms:modified xsi:type="dcterms:W3CDTF">2009-01-15T20:43:29Z</dcterms:modified>
  <cp:revision>5</cp:revision>
  <dc:subject/>
  <dc:title>Famous Mummies and  Their Stories</dc:title>
</cp:coreProperties>
</file>